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750-1F6D-48DF-A35D-C51AEBF00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EB3F-A33D-46B0-9EEC-2EE5CB7F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7FCE-4CA9-433C-8C6E-4A9B6DCCB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2A8C-CCDB-4174-BFDE-53AB318C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6FD0-6D12-42AF-96B2-08B18149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A0702-3EA4-4874-B2BC-28A0865B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7858-B1BC-4389-9328-FB5EA45E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C795-3CD1-4A9B-978C-0F67B2153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9B5F-46F5-4F88-95E4-01440F65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9850-181B-4387-9851-B2CF9C9B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790BE-9DF0-40FD-B2BD-EDAD0490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061B-4CD3-4AA7-860B-DFC78774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9E645-F82A-4E93-A085-71D6949F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26CC5-86DC-4A04-93F5-6F6E5DE8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1A12-D3B8-472A-8819-748A13ECC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42C7-0479-4359-84FD-1BD936E7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671B1-941E-4ABB-A914-9A87EA933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CF5A-A805-41C6-BD62-D40A4DE4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76F3-41DD-473F-BF28-F5F842C28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4516-4AE3-49B7-9F16-FE8C9C8C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7AE-0E9F-4CD4-A569-7B5C3BE5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B33A-4ECF-4A13-B930-B41042D75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4300-EED0-4571-A15F-DBF93A59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97B1-EDE9-4DEF-AD75-701C8EE4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AD465-8FD1-44E7-8F99-DC8B8F4735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003B-66ED-44E8-BB0E-428ADC7767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Муниципальное общеобразовательное учреждение «Средняя общеобразовательная школа 57 г.Тулы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360" y="3962520"/>
            <a:ext cx="7848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ыполнила: МАТЮХИНА ОКСАНА ВАСИЛЬЕВНА, учитель начальных классов, МОУ СОШ №57 г.Ту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Детское творчество</a:t>
            </a:r>
            <a:br>
              <a:rPr sz="4000"/>
            </a:b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Мир права глазами детей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7696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752480"/>
            <a:ext cx="7086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Папа, мама, ты и 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Называемся «семья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 для нас семейный Кодекс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Выпускается, друзь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А для всяких хулиганов,     Если ты разбил окно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Забияк и наркоманов          Знай, что ты не пра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Уголовный Кодекс есть        У хозяев право е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И ему почет и честь.            Взять с виновных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штраф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376360" cy="3671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ff66"/>
                </a:solidFill>
                <a:latin typeface="Arial"/>
              </a:rPr>
              <a:t>Стихи о праве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84000" y="1773360"/>
            <a:ext cx="665964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По извилистой дорожк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Шли по миру чьи-то нож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Вдаль смотря широкими  глазами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Шел малыш знакомиться с правам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Рядом мама крепко за руку держала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В путь-дорогу умницу свою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сопровождал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Знать должны и взрослые, и дет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               </a:t>
            </a:r>
            <a:r>
              <a:rPr b="1" i="1" lang="en-US" sz="2400" spc="-1" strike="noStrike">
                <a:solidFill>
                  <a:srgbClr val="ff33cc"/>
                </a:solidFill>
                <a:latin typeface="Arial"/>
              </a:rPr>
              <a:t>О правах, что защищают их на             свете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Папа, мама, ты и 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Называемся «семья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 для нас семейный Кодекс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Выпускается, друзь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А для всяких хулиганов,     Если ты разбил окно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Забияк и наркоманов          Знай, что ты не пра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Уголовный Кодекс есть        У хозяев право е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 ему почет и честь.            Взять с виновных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траф.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603360" y="609120"/>
            <a:ext cx="8540640" cy="510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"/>
              </a:rPr>
              <a:t>Получение знаний о гражданско-правовом общест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"/>
              </a:rPr>
              <a:t>Формирование умения оценивать свои поступки, в соответствии с общепринятыми правами и обязанностями в классном коллектив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"/>
              </a:rPr>
              <a:t>Применение правовых знаний в жизни классного коллектив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44440"/>
            <a:ext cx="83358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Рефлекс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91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…Мы решили сделать «Устав нашего класса» потому, что в классе возникали конфликтные ситуации. Мы старались, и у нас неплохо получилось.» (Ходова Н.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…Мне очень понравился «Устав нашего класса». Работа красивая и нужная. Работа была не легкой, но интересной.» (Сильченко Ю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…Я думаю «Устав нашего класса» должен соблюдаться всеми учениками класса. Я думаю, когда Устав будет готов, у нас в классе будет меньше конфликтов». (Копылова Г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ff66"/>
                </a:solidFill>
                <a:latin typeface="Arial Black"/>
              </a:rPr>
              <a:t>Рефлекси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842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не понравилась идея устава класса. Это очень интересное занятие. Нарисовать, написать, придумать что-то. И те, кто писал и помогал в составлении «Устава», сделал хорошее дело для всего класса». (Рассказова Д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Мое мнение: все дети, которые участвовали в проекте – молодцы, они помогли всему классу. Но я не довольна, что не все дети делали «Устав». Это говорит о том, что их мало заботит жизнь класса». (Гарибян В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«…Мне очень понравилось, как написан «Устав». Я надеюсь, что теперь конфликты в нашем классе с помощью «Устава» будут решены. И еще с помощью этого мы научились правам и обязанностям». (Тако И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1676160"/>
            <a:ext cx="83581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b7"/>
                </a:solidFill>
                <a:latin typeface="Arial Black"/>
              </a:rPr>
              <a:t>Спасибо за внимание!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 Black"/>
              </a:rPr>
              <a:t>Гражданско-правовое воспитание в начальной  школ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Arial"/>
              </a:rPr>
              <a:t>Из опыта работы уч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В жизни надо иметь свое служение –         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 Служение какому-либо делу.           Пусть дело это будет    маленьким,          </a:t>
            </a:r>
            <a:br>
              <a:rPr sz="2800"/>
            </a:b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 Оно станет большим,           Если будешь ему верен.                                                              Д.С. Лихачев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80880" y="34286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581280"/>
          <a:ext cx="6202080" cy="2667240"/>
        </p:xfrm>
        <a:graphic>
          <a:graphicData uri="http://schemas.openxmlformats.org/drawingml/2006/table">
            <a:tbl>
              <a:tblPr/>
              <a:tblGrid>
                <a:gridCol w="6202080"/>
              </a:tblGrid>
              <a:tr h="266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447920" y="2773800"/>
            <a:ext cx="6184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уманизм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ерховенства  права, уважения прав и свобод челове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родосообразности, то есть не переделка ребенка, а развитие имеющегося потенциал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еятельностного подхода к воспитанию личности, то есть воспитание не морализацией, а организацией непосредственной жизнедеятельности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зрастной целесообразности, то есть отбора содержания и форм деятельности в соответствии с ведущими потребностями ребен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b7"/>
                </a:solidFill>
                <a:latin typeface="Arial Black"/>
              </a:rPr>
              <a:t>Для реализации этих целей в школе существует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система по формированию толерантного сознания  учащихся, основанная на следующих принципах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007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91468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 Black"/>
              </a:rPr>
              <a:t>Основными целями школы формированию толерантного сознания  школьников являются 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здание благоприятных условий, способствующих формированию толерантного сознания  у учащихся школы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витие у учащихся школы важнейших духовно-нравственных и социальных ценностей (патриотизм, доброта, единство, дружба, милосердие, согласие, уважение старших, ценность жизни и т.д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ирование уважительного отношения к праву, как социальной ценности, выработка установки на законопослушное поведение и активное неприятие нарушений правопорядк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ормирование социально-активного поведения личности, проявляющегося в осознанном правомерном поведении, эффективной реализации своих прав и свобод, умелой и цивилизованной защите их, ответственном отношении к обязанностям гражданина РФ, способности в любых ситуациях действовать юридически грамотн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 Black"/>
              </a:rPr>
              <a:t>ОСНОВНЫЕ ТЕРМИНЫ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40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Под гражданско-правовым воспитывающим пространством будем понимать совокупность социально-педагогических условий, возникающих благодаря специально организуемой деятельности и направленных на сотворчество субъектов образовательного процесса. Важнейшим признаком гражданско-правового пространства являются установившиеся внутри его гражданско-правовые отноше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9900"/>
                </a:solidFill>
                <a:latin typeface="Arial"/>
              </a:rPr>
              <a:t>Гражданская компетентность личности – совокупность готовности и способностей, позволяющих ей активно и эффективно реализовывать весь комплекс гражданских прав и обязанностей в демократическом обществе, применить свои знания и умения на практик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523880" y="2435400"/>
            <a:ext cx="5897520" cy="4422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990720"/>
            <a:ext cx="81532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buClr>
                <a:srgbClr val="ffffb7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Создание «Устава класса»</a:t>
            </a:r>
            <a:br>
              <a:rPr sz="4400"/>
            </a:br>
            <a:br>
              <a:rPr sz="4400"/>
            </a:br>
            <a:br>
              <a:rPr sz="3000"/>
            </a:br>
            <a:br>
              <a:rPr sz="3000"/>
            </a:br>
            <a:r>
              <a:rPr b="0" i="1" lang="en-US" sz="3000" spc="-1" strike="noStrike">
                <a:solidFill>
                  <a:srgbClr val="99ff66"/>
                </a:solidFill>
                <a:latin typeface="Arial Black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888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b7"/>
                </a:solidFill>
                <a:latin typeface="Arial Black"/>
              </a:rPr>
              <a:t>Учителя школы  попытались составить свои, не такие совершенные, но очень искренние правила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3616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беспечить  физическую и психическую безопасность ребенк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вершенствовать детскую ли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оспитывать в ребенке человечнос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зволять ребенку  выражать свои мысли, чувства, эмоции приемлемым образо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 лишать ребенка общения с деть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ать право ребенку совершать ошиб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  оскорблять ребенка ни при каких обстоятельства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Реализация гражданско - правового </a:t>
            </a: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2000" spc="-1" strike="noStrike">
                <a:solidFill>
                  <a:srgbClr val="ffffb7"/>
                </a:solidFill>
                <a:latin typeface="Arial Black"/>
              </a:rPr>
              <a:t>воспитания  в начальной школе осуществляется по нескольким моделям</a:t>
            </a:r>
            <a:endParaRPr b="1" lang="en-US" sz="2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жпредметна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едметная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некласс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практике  нашей школы используются в разной степени все перечисленные модели. Их классификация  возможна по видам деятельности: учебная и внеучебна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igame</cp:lastModifiedBy>
  <dcterms:modified xsi:type="dcterms:W3CDTF">2011-02-23T18:35:27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