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17E-D044-4A23-A9A8-9295DBE3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F6A-4A54-4138-8DC2-87145C6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55F-7BD5-4A1D-92B8-025173A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90E-CDB9-4F40-B122-9972A996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59C-39D2-4EA6-B86B-BEEFA51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0A8-1B89-4BC4-8CBC-0294523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BE1-0031-4DA4-B2A3-DC8F11F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6FE-7461-47FB-A4D1-3BD6BA1A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E8D-AF53-4BBC-B11D-816EA18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834-5EC4-4FF4-95D9-79DBDCA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8AF-E16A-4701-87F7-AE81048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CBE-59DB-45EB-BC0F-952B324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A5FB-107C-4E2C-8C85-A09733B4C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e6.gif"/>
          <p:cNvPicPr/>
          <p:nvPr/>
        </p:nvPicPr>
        <p:blipFill>
          <a:blip r:embed="rId2"/>
          <a:stretch/>
        </p:blipFill>
        <p:spPr>
          <a:xfrm>
            <a:off x="11430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752480" y="1447920"/>
            <a:ext cx="57150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148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упражн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200400" y="4419720"/>
            <a:ext cx="322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для глаз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8" descr="1e6.gif"/>
          <p:cNvPicPr/>
          <p:nvPr/>
        </p:nvPicPr>
        <p:blipFill>
          <a:blip r:embed="rId3"/>
          <a:stretch/>
        </p:blipFill>
        <p:spPr>
          <a:xfrm>
            <a:off x="5257800" y="1981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133720" y="579132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УСОШ 5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1e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0_4296e_6fcce7e_L.gif"/>
          <p:cNvPicPr/>
          <p:nvPr/>
        </p:nvPicPr>
        <p:blipFill>
          <a:blip r:embed="rId1"/>
          <a:stretch/>
        </p:blipFill>
        <p:spPr>
          <a:xfrm>
            <a:off x="304920" y="0"/>
            <a:ext cx="1666800" cy="1324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_4296e_6fcce7e_L.gif"/>
          <p:cNvPicPr/>
          <p:nvPr/>
        </p:nvPicPr>
        <p:blipFill>
          <a:blip r:embed="rId2"/>
          <a:stretch/>
        </p:blipFill>
        <p:spPr>
          <a:xfrm rot="5400000">
            <a:off x="7548120" y="71280"/>
            <a:ext cx="16668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0_4296e_6fcce7e_L.gif"/>
          <p:cNvPicPr/>
          <p:nvPr/>
        </p:nvPicPr>
        <p:blipFill>
          <a:blip r:embed="rId3"/>
          <a:stretch/>
        </p:blipFill>
        <p:spPr>
          <a:xfrm flipH="1">
            <a:off x="6857640" y="5105520"/>
            <a:ext cx="2057400" cy="13237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0_4296e_6fcce7e_L.gif"/>
          <p:cNvPicPr/>
          <p:nvPr/>
        </p:nvPicPr>
        <p:blipFill>
          <a:blip r:embed="rId4"/>
          <a:stretch/>
        </p:blipFill>
        <p:spPr>
          <a:xfrm flipH="1" rot="5400000">
            <a:off x="14040" y="516672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79167 -1.11111E-006 E">
                                      <p:cBhvr>
                                        <p:cTn id="75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-0.025 L -0.00573 0.7868 E">
                                      <p:cBhvr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44 0.06736 L -0.7625 0.07013 E">
                                      <p:cBhvr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7 0.06111 L -0.0224 -0.73889 E">
                                      <p:cBhvr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2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4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f8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32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238140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320.gif"/>
          <p:cNvPicPr/>
          <p:nvPr/>
        </p:nvPicPr>
        <p:blipFill>
          <a:blip r:embed="rId2"/>
          <a:stretch/>
        </p:blipFill>
        <p:spPr>
          <a:xfrm>
            <a:off x="6705720" y="5486400"/>
            <a:ext cx="224460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320.gif"/>
          <p:cNvPicPr/>
          <p:nvPr/>
        </p:nvPicPr>
        <p:blipFill>
          <a:blip r:embed="rId3"/>
          <a:stretch/>
        </p:blipFill>
        <p:spPr>
          <a:xfrm flipH="1" rot="20169000">
            <a:off x="0" y="5334120"/>
            <a:ext cx="238140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320.gif"/>
          <p:cNvPicPr/>
          <p:nvPr/>
        </p:nvPicPr>
        <p:blipFill>
          <a:blip r:embed="rId4"/>
          <a:stretch/>
        </p:blipFill>
        <p:spPr>
          <a:xfrm>
            <a:off x="6899400" y="228600"/>
            <a:ext cx="22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1111 L 0.76458 0.81111 E">
                                      <p:cBhvr>
                                        <p:cTn id="15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6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75833 -0.75556 E">
                                      <p:cBhvr>
                                        <p:cTn id="17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71 0.01736 L -0.73629 0.01736 E">
                                      <p:cBhvr>
                                        <p:cTn id="18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0_9cdb_feacdfce_S.gif"/>
          <p:cNvPicPr/>
          <p:nvPr/>
        </p:nvPicPr>
        <p:blipFill>
          <a:blip r:embed="rId1"/>
          <a:stretch/>
        </p:blipFill>
        <p:spPr>
          <a:xfrm>
            <a:off x="-152280" y="1522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0_9cdb_feacdfce_S.gif"/>
          <p:cNvPicPr/>
          <p:nvPr/>
        </p:nvPicPr>
        <p:blipFill>
          <a:blip r:embed="rId2"/>
          <a:stretch/>
        </p:blipFill>
        <p:spPr>
          <a:xfrm flipH="1">
            <a:off x="7772400" y="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0_9cdb_feacdfce_S.gif"/>
          <p:cNvPicPr/>
          <p:nvPr/>
        </p:nvPicPr>
        <p:blipFill>
          <a:blip r:embed="rId3"/>
          <a:stretch/>
        </p:blipFill>
        <p:spPr>
          <a:xfrm>
            <a:off x="-15228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0_9cdb_feacdfce_S.gif"/>
          <p:cNvPicPr/>
          <p:nvPr/>
        </p:nvPicPr>
        <p:blipFill>
          <a:blip r:embed="rId4"/>
          <a:stretch/>
        </p:blipFill>
        <p:spPr>
          <a:xfrm flipH="1">
            <a:off x="7772400" y="838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5" descr="0_9cdb_feacdfce_S.gif"/>
          <p:cNvPicPr/>
          <p:nvPr/>
        </p:nvPicPr>
        <p:blipFill>
          <a:blip r:embed="rId5"/>
          <a:stretch/>
        </p:blipFill>
        <p:spPr>
          <a:xfrm>
            <a:off x="-15228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0_9cdb_feacdfce_S.gif"/>
          <p:cNvPicPr/>
          <p:nvPr/>
        </p:nvPicPr>
        <p:blipFill>
          <a:blip r:embed="rId6"/>
          <a:stretch/>
        </p:blipFill>
        <p:spPr>
          <a:xfrm flipH="1">
            <a:off x="7772400" y="1676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7" descr="0_9cdb_feacdfce_S.gif"/>
          <p:cNvPicPr/>
          <p:nvPr/>
        </p:nvPicPr>
        <p:blipFill>
          <a:blip r:embed="rId7"/>
          <a:stretch/>
        </p:blipFill>
        <p:spPr>
          <a:xfrm>
            <a:off x="-15228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8" descr="0_9cdb_feacdfce_S.gif"/>
          <p:cNvPicPr/>
          <p:nvPr/>
        </p:nvPicPr>
        <p:blipFill>
          <a:blip r:embed="rId8"/>
          <a:stretch/>
        </p:blipFill>
        <p:spPr>
          <a:xfrm flipH="1">
            <a:off x="7772400" y="25146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9" descr="0_9cdb_feacdfce_S.gif"/>
          <p:cNvPicPr/>
          <p:nvPr/>
        </p:nvPicPr>
        <p:blipFill>
          <a:blip r:embed="rId9"/>
          <a:stretch/>
        </p:blipFill>
        <p:spPr>
          <a:xfrm>
            <a:off x="-152280" y="342900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0_9cdb_feacdfce_S.gif"/>
          <p:cNvPicPr/>
          <p:nvPr/>
        </p:nvPicPr>
        <p:blipFill>
          <a:blip r:embed="rId10"/>
          <a:stretch/>
        </p:blipFill>
        <p:spPr>
          <a:xfrm flipH="1">
            <a:off x="7772400" y="33526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1" descr="0_9cdb_feacdfce_S.gif"/>
          <p:cNvPicPr/>
          <p:nvPr/>
        </p:nvPicPr>
        <p:blipFill>
          <a:blip r:embed="rId11"/>
          <a:stretch/>
        </p:blipFill>
        <p:spPr>
          <a:xfrm>
            <a:off x="-1522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2" descr="0_9cdb_feacdfce_S.gif"/>
          <p:cNvPicPr/>
          <p:nvPr/>
        </p:nvPicPr>
        <p:blipFill>
          <a:blip r:embed="rId12"/>
          <a:stretch/>
        </p:blipFill>
        <p:spPr>
          <a:xfrm flipH="1">
            <a:off x="7924680" y="4267080"/>
            <a:ext cx="1371600" cy="819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3" descr="0_9cdb_feacdfce_S.gif"/>
          <p:cNvPicPr/>
          <p:nvPr/>
        </p:nvPicPr>
        <p:blipFill>
          <a:blip r:embed="rId13"/>
          <a:stretch/>
        </p:blipFill>
        <p:spPr>
          <a:xfrm>
            <a:off x="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4" descr="0_9cdb_feacdfce_S.gif"/>
          <p:cNvPicPr/>
          <p:nvPr/>
        </p:nvPicPr>
        <p:blipFill>
          <a:blip r:embed="rId14"/>
          <a:stretch/>
        </p:blipFill>
        <p:spPr>
          <a:xfrm flipH="1">
            <a:off x="8001000" y="5105520"/>
            <a:ext cx="1371600" cy="819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0_9cdb_feacdfce_S.gif"/>
          <p:cNvPicPr/>
          <p:nvPr/>
        </p:nvPicPr>
        <p:blipFill>
          <a:blip r:embed="rId15"/>
          <a:stretch/>
        </p:blipFill>
        <p:spPr>
          <a:xfrm>
            <a:off x="0" y="5791320"/>
            <a:ext cx="1371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8334 -0.00416 E">
                                      <p:cBhvr>
                                        <p:cTn id="19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805 L -0.85833 0.11389 E">
                                      <p:cBhvr>
                                        <p:cTn id="20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86667 0.10834 E">
                                      <p:cBhvr>
                                        <p:cTn id="22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0834 L 0.88333 -0.0125 E">
                                      <p:cBhvr>
                                        <p:cTn id="23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-0.02361 L -0.85834 0.1 E">
                                      <p:cBhvr>
                                        <p:cTn id="24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9166 0.00694 E">
                                      <p:cBhvr>
                                        <p:cTn id="25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0417 L -0.85 0.10277 E">
                                      <p:cBhvr>
                                        <p:cTn id="2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7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7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89167 0.00695 E">
                                      <p:cBhvr>
                                        <p:cTn id="28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4000"/>
                            </p:stCondLst>
                            <p:childTnLst>
                              <p:par>
                                <p:cTn id="2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875 0.10694 E">
                                      <p:cBhvr>
                                        <p:cTn id="29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8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89166 0.00695 E">
                                      <p:cBhvr>
                                        <p:cTn id="30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20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40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875 0.10695 E">
                                      <p:cBhvr>
                                        <p:cTn id="3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6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1.11111E-006 L 0.925 0.01111 E">
                                      <p:cBhvr>
                                        <p:cTn id="32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33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34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35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36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37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38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39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0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2000"/>
                            </p:stCondLst>
                            <p:childTnLst>
                              <p:par>
                                <p:cTn id="4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0_9d2e_5a88a840_S.gif"/>
          <p:cNvPicPr/>
          <p:nvPr/>
        </p:nvPicPr>
        <p:blipFill>
          <a:blip r:embed="rId1"/>
          <a:stretch/>
        </p:blipFill>
        <p:spPr>
          <a:xfrm>
            <a:off x="3429000" y="228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0_9d2e_5a88a840_S.gif"/>
          <p:cNvPicPr/>
          <p:nvPr/>
        </p:nvPicPr>
        <p:blipFill>
          <a:blip r:embed="rId2"/>
          <a:stretch/>
        </p:blipFill>
        <p:spPr>
          <a:xfrm rot="3326400">
            <a:off x="3504960" y="236232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0_9d2e_5a88a840_S.gif"/>
          <p:cNvPicPr/>
          <p:nvPr/>
        </p:nvPicPr>
        <p:blipFill>
          <a:blip r:embed="rId3"/>
          <a:stretch/>
        </p:blipFill>
        <p:spPr>
          <a:xfrm rot="5155800">
            <a:off x="3657240" y="2514240"/>
            <a:ext cx="1927080" cy="1771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0_9d2e_5a88a840_S.gif"/>
          <p:cNvPicPr/>
          <p:nvPr/>
        </p:nvPicPr>
        <p:blipFill>
          <a:blip r:embed="rId4"/>
          <a:stretch/>
        </p:blipFill>
        <p:spPr>
          <a:xfrm rot="7453200">
            <a:off x="3664080" y="246600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0_9d2e_5a88a840_S.gif"/>
          <p:cNvPicPr/>
          <p:nvPr/>
        </p:nvPicPr>
        <p:blipFill>
          <a:blip r:embed="rId5"/>
          <a:stretch/>
        </p:blipFill>
        <p:spPr>
          <a:xfrm rot="10800000">
            <a:off x="3663720" y="26175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0_9d2e_5a88a840_S.gif"/>
          <p:cNvPicPr/>
          <p:nvPr/>
        </p:nvPicPr>
        <p:blipFill>
          <a:blip r:embed="rId6"/>
          <a:stretch/>
        </p:blipFill>
        <p:spPr>
          <a:xfrm rot="13929600">
            <a:off x="3510360" y="25401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0_9d2e_5a88a840_S.gif"/>
          <p:cNvPicPr/>
          <p:nvPr/>
        </p:nvPicPr>
        <p:blipFill>
          <a:blip r:embed="rId7"/>
          <a:stretch/>
        </p:blipFill>
        <p:spPr>
          <a:xfrm rot="16200000">
            <a:off x="3580560" y="2514960"/>
            <a:ext cx="1925640" cy="1771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0_9d2e_5a88a840_S.gif"/>
          <p:cNvPicPr/>
          <p:nvPr/>
        </p:nvPicPr>
        <p:blipFill>
          <a:blip r:embed="rId8"/>
          <a:stretch/>
        </p:blipFill>
        <p:spPr>
          <a:xfrm rot="18235200">
            <a:off x="3358080" y="2388240"/>
            <a:ext cx="1925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 L 0.00625 -0.4625 E">
                                      <p:cBhvr>
                                        <p:cTn id="41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917 L 0.51146 -0.47361 E">
                                      <p:cBhvr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1389 L 0.51667 -0.02916 E">
                                      <p:cBhvr>
                                        <p:cTn id="43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23 -0.02176 L 0.51667 0.51134 E">
                                      <p:cBhvr>
                                        <p:cTn id="44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243 0.54468 E">
                                      <p:cBhvr>
                                        <p:cTn id="4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49167 0.51111 E">
                                      <p:cBhvr>
                                        <p:cTn id="45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0717 L -0.49688 -0.00717 E">
                                      <p:cBhvr>
                                        <p:cTn id="46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L -0.51354 -0.51829 E">
                                      <p:cBhvr>
                                        <p:cTn id="4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game</cp:lastModifiedBy>
  <dcterms:modified xsi:type="dcterms:W3CDTF">2011-11-15T17:31:47Z</dcterms:modified>
  <cp:revision>11</cp:revision>
  <dc:subject/>
  <dc:title>Слайд 1</dc:title>
</cp:coreProperties>
</file>